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D8D7-F5EC-4B48-9168-3764C9AB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3EC-CF4E-4208-9284-90F8B521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3917-8257-43C3-BB4B-4CD92CA2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F40-E1D0-490E-9D71-7E4AA74F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6F9-5CAD-4F1A-88C0-4223AC68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4A8-2BAA-4B59-AEF8-F8A0FC81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A5D-8E2D-4062-869E-A7F585AF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1FF-6D42-45D5-B616-3D5BDA1D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C07-9E80-421B-9A03-EFCB457F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69E-C5CB-4F58-A3E7-393DBAD3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B4A-0B31-404E-AC9C-2D55E0AB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390-1A84-4966-ACE5-07994D6D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47BA-52E0-440D-B85D-E9DF753BC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Guys &amp; Girls view Optical Illusions Different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girls view optical illusions differently than gu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I was little, I’ve noticed that guys &amp; girls view things differently &amp; never seem to notice the exact same things at the same time. So this year I wanted to test to see if there was a difference between the way that guys &amp; girls see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 optical il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rade testers (2 girls, 2 gu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 choosers (to decide which picture is more obvious to see in the illu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 &amp; penc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that they will see the pictures in different ways &amp; notice the different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 around to each chooser &amp; ask them to tell you what they see (this will help with grading everyone else because which ever object is seen the most often is the most often seen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 one person at a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 them only one picture at a time and ask them what’s the first thing they see &amp; write down what they say (for pictures with multiple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-Different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turned out to be right; girls tend to see the more obvious solution in the way that they see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b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bbb4"/>
                </a:solidFill>
                <a:uFillTx/>
                <a:latin typeface="Arial"/>
              </a:rPr>
              <a:t>http://library.thinkquest.org/J0112786/illusion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67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d67db"/>
                </a:solidFill>
                <a:uFillTx/>
                <a:latin typeface="Arial"/>
              </a:rPr>
              <a:t>http://www.123opticalillusion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67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d67db"/>
                </a:solidFill>
                <a:uFillTx/>
                <a:latin typeface="Arial"/>
              </a:rPr>
              <a:t>www.echalk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67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d67db"/>
                </a:solidFill>
                <a:uFillTx/>
                <a:latin typeface="Arial"/>
              </a:rPr>
              <a:t>http://library.thinkquest.org/J0112786/illusion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4:12:21Z</dcterms:created>
  <dc:creator>STERLING USD376</dc:creator>
  <dc:description/>
  <dc:language>en-US</dc:language>
  <cp:lastModifiedBy>USD376</cp:lastModifiedBy>
  <dcterms:modified xsi:type="dcterms:W3CDTF">2011-03-11T15:33:18Z</dcterms:modified>
  <cp:revision>6</cp:revision>
  <dc:subject/>
  <dc:title>PowerPoint Presentation</dc:title>
</cp:coreProperties>
</file>